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77A-172D-41A4-8958-29563470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0EA-7085-4B48-A3E8-FF730577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63C-26ED-4BE8-B38D-D42D722C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23D-060A-438B-9BF1-BD70E6C0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45B-38E5-48BC-99BB-4933DF5E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66A-90BC-453C-9DB1-A2B7EA59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9AF-799E-4A76-82D8-523CAD2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F12-5D91-485E-B68A-3D09168C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BC3-DB26-4675-8C29-ADCB45B1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A0B-93C1-48AD-8B48-58BD62A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195-E30E-40D2-B786-8112E28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2A3-6E39-4B5B-BDDA-D298B06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650-96C5-4773-ADB5-4B055EB6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bject that can establish that a crime has been committed or can link a crime and its victim or its perpet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Examination of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&amp; metal ox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” = windows and bo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osilicates” = auto headlights, Pyr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ed” heat/cool many times = auto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inated” plastic sandwich = windsh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– (FBI Datab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/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– flot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– p.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– broken glass fit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dial /Concentric fracture p. 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– p. 144 #20, 23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of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stereoscopic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that match in number and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paint b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gas is form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yrogram p. 3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paint pi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oscopy – 15-20 elements/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porized/heated to reve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samples match – probability is 33,000:1 that they came from the same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from garments, road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= al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– The Predator p. 4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415 #14,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tegrated surface material (natural and artificial) that lies on or near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100 soil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identical conditions (d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/anim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icial deb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/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– floa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intervals 100 yd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Tbsp from sam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, individually wr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– The Silent Witness p. 4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of 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– the process of determining a substance’s physical or chemic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– the process of ascertaining whether two or more objects have a common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– properties of evidence that can be attributed to a common source with an extremely high degree of 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– properties of evidence that can be associated only with a group and never with a singl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culation to determine the overall frequency of occurrence for a particular combination of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6 x 0.85 x 0.02 = 0.0044 = 0.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90720" y="3124080"/>
          <a:ext cx="7543440" cy="2087640"/>
        </p:xfrm>
        <a:graphic>
          <a:graphicData uri="http://schemas.openxmlformats.org/drawingml/2006/table">
            <a:tbl>
              <a:tblPr/>
              <a:tblGrid>
                <a:gridCol w="3771720"/>
                <a:gridCol w="37717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Fa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M 2+2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863640"/>
            <a:ext cx="7772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y of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icle – the scale structure covering the exterior of th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pecie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 – the main body of the hair sh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hai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la – a cellular column running through the center of th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core : “medullary inde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&lt;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 &gt;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162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of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% of “matches” are in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ascertain age/s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root/follicle contai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full-length hairs from the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full-length pubic 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 – p. 382 #2-14 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37:45Z</dcterms:created>
  <dc:creator>Administrator</dc:creator>
  <dc:description/>
  <dc:language>en-US</dc:language>
  <cp:lastModifiedBy>Administrator</cp:lastModifiedBy>
  <dcterms:modified xsi:type="dcterms:W3CDTF">2009-03-20T14:34:42Z</dcterms:modified>
  <cp:revision>6</cp:revision>
  <dc:subject/>
  <dc:title>Physical Evidence</dc:title>
</cp:coreProperties>
</file>